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2BF-AAA5-4BA9-94AA-4CFF2D2D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5FA-17C3-41A8-AC19-A59DF77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717-DA8B-4689-88B6-1F2C6C14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9A6-C0D8-4FD5-8120-39F410A3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8C8D-48D6-409B-BF14-5659587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EA4-393E-4E3B-A2BB-5D299FBC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1BDF-5B99-49DD-9E4D-B7AAFDC5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D92-5912-4A83-A374-100B3B70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BDF-CB49-4F5D-8E11-2159F56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868-AA07-401B-8046-2768BB6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CD6-FE9B-4690-AA88-2DD55E0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6CF-13CE-4D17-858E-E95A4DDE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475-72B2-4269-88D3-0CFFA9FCA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324480" y="304920"/>
            <a:ext cx="281952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 يوماً واحداً في دياركَ خيرٌ من آل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آثرتُ أَن أَطرَحَ عِنْدَ عتبةِ بيتِ إله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أن أَنزلَ في منازلِ الخطأ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3451070cXNiyMwIsJ_ph" descr=""/>
          <p:cNvPicPr/>
          <p:nvPr/>
        </p:nvPicPr>
        <p:blipFill>
          <a:blip r:embed="rId2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1368130RjrjRHULen_ph" descr="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72200" y="0"/>
            <a:ext cx="2971800" cy="11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َن لي بمذابحِكَ يا ربَّ الأكوان ملكي وإله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بى لسكان بييتك إلى دهر الدهو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ُسَبِّحونكَ طوبى للذين نصَرتُهُم مِن قِبَلِكَ فإنَّ في قلوبِهِم مراقي إليك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27731970FdghszlVNG_ph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400800" y="304920"/>
            <a:ext cx="2438280" cy="83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رب إلَهَ الأكوانِ استَمِعْ صلاتي أَصِخْ يا إلَهَ يعق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ُنْظُر أيُّها المحامي عنّا والتَفِت إلى وجهِ مسيحِ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48520" y="304920"/>
            <a:ext cx="2895480" cy="85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للإلهِ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495687_ph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845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457200" y="0"/>
            <a:ext cx="9372600" cy="73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أحبَّ مساكِنَكَ يا ربَّ الأك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شتاقُ وتذوبُ نفس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  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لى ديار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هتَزُّ قلبي وجِسمي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إله الحي  للإلهِ الح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9:03:33Z</dcterms:created>
  <dc:creator>SUZANNE.MD</dc:creator>
  <dc:description/>
  <dc:language>en-US</dc:language>
  <cp:lastModifiedBy>USER</cp:lastModifiedBy>
  <dcterms:modified xsi:type="dcterms:W3CDTF">2003-01-31T04:46:19Z</dcterms:modified>
  <cp:revision>3</cp:revision>
  <dc:subject/>
  <dc:title>PowerPoint Presentation</dc:title>
</cp:coreProperties>
</file>